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99E6-64D7-4DB1-AAB5-EC309FE47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E649-D762-41A6-9460-BBE04103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DD45-1DA4-4708-AD52-7F268C848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4B9E-6BE7-4AA4-8151-5ECB358C7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5A79-33B0-471A-B5AB-F9D7FA66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0CD3-5728-4A11-A91D-FCDA0BB6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088B-0B4A-46F2-B8D6-2D648DFD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A3BB-1B16-4609-B635-3B869741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EAA9-AC6F-4BE9-98D4-7F43F5B0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C449-CA2F-49D4-A87D-9099A039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6F96-7ADD-4C58-80C2-6E87EBA6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5E6A-F0CB-436B-BA45-200A5858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1EB5-899C-4EBE-8050-94A4DAA75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Arial Narrow"/>
              </a:rPr>
              <a:t>Glory to God in the High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lory to God in the highes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peace to God’s peo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n ea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rd God, heavenly King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lmighty God and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worship you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give you thank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praise you for your gl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rd Jesus Chr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nly Son of the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rd God, Lamb of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 take away the sin of the worl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 are seated at the right h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the Fath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receive our pray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you alone are the Holy On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 alone are the Lor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 alone are the Most Hig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Jesus Chris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 the Holy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glory of God the Father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0:00:20Z</dcterms:created>
  <dc:creator>Anon Anon</dc:creator>
  <dc:description/>
  <dc:language>en-US</dc:language>
  <cp:lastModifiedBy>Anon Anon</cp:lastModifiedBy>
  <dcterms:modified xsi:type="dcterms:W3CDTF">2005-08-09T05:26:53Z</dcterms:modified>
  <cp:revision>10</cp:revision>
  <dc:subject/>
  <dc:title>PowerPoint Presentation</dc:title>
</cp:coreProperties>
</file>